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4CF7-5463-4C57-9227-FB3FF63D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131-9DD5-4ACA-B36E-C2552E41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7E0-B6BE-49B5-82C5-0248130A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2A9-E7BB-44DC-A0DF-09C18C28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D8FB-1B9F-4C45-AD25-84096C87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67F6-3C8A-46F1-A774-C6516012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7A4-3343-4619-AA1B-AE083817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7F7-4BCF-4B1B-B7E7-DCEEA313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08B-9248-400F-82AF-E6EA383C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217F-B3B3-4EAE-94DA-66995DA0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E72-174E-41DD-B85B-A645E183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F8C-EA04-4855-84D7-522E28ED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1B21-7171-4A03-A97F-9415038CB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image" Target="../media/image5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image" Target="../media/image5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image" Target="../media/image5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image" Target="../media/image5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image" Target="../media/image5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image" Target="../media/image5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eakest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anne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overview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overview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53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2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5120" y="6461280"/>
              <a:ext cx="37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ygiantsbigblue@yahoo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overview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9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overview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overview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verview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overview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overview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overview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Mark E. Damon</cp:lastModifiedBy>
  <dcterms:modified xsi:type="dcterms:W3CDTF">2002-06-11T01:13:17Z</dcterms:modified>
  <cp:revision>15</cp:revision>
  <dc:subject/>
  <dc:title>No Slide Title</dc:title>
</cp:coreProperties>
</file>